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EF7-E648-4481-A799-37664285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E46-1362-4479-A2E1-A8B201A7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595-50CD-4FE4-AF3F-3A388A8B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4A2-3418-4E29-B698-10D7B43F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61D-277E-4943-AC0F-2A16DEDD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1A3-6D34-4B9D-988F-0ED257DE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F2E7-A18C-4AD2-BD4D-2C402633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0E4-7CF7-4BE2-8C87-5D84FBBD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4EB-3203-4692-B44E-E69FAD1D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656-8E1E-47ED-B3DA-7C6AEAB0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FEB-1904-4108-AE05-94DC6FF3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986-C209-40DC-96F0-C5357960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AB3D-D4A8-441E-9FB1-ADBFD0820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4T18:44:51Z</dcterms:created>
  <dc:creator>Fred Mills</dc:creator>
  <dc:description/>
  <dc:language>en-US</dc:language>
  <cp:lastModifiedBy>Fred Mills</cp:lastModifiedBy>
  <dcterms:modified xsi:type="dcterms:W3CDTF">2018-04-14T18:48:17Z</dcterms:modified>
  <cp:revision>2</cp:revision>
  <dc:subject/>
  <dc:title>Slide 1</dc:title>
</cp:coreProperties>
</file>